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588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D7747-1E2E-41B4-9EC6-71479E73F09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0A7B3-2969-4D61-A7D3-D610DBBA8DE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87BCD-E561-45DD-A993-6D28F98A4BD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BD230-62C2-4599-95AA-8BAEBF4590D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DA4DD-BB36-43FF-A66E-CED2E230E8E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6D804-7B23-40BE-8522-30F4BC271AC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EB189-64C5-43FD-8AF4-CA100DEBA85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4F076-03E1-47D3-95B1-14D391D74C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4A522-4C08-4EA4-8861-16A68FC4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D8887-9484-4EDA-AAC5-3F2DBF6B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3C8D9-790C-4EC9-A9C2-5D1AE30D2C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B6658-536D-4845-9A9F-21A81005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389D9-C85D-48F2-BFD0-CB9B8E67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26385-D2CE-4670-B61F-E4F1CB68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BA05D-5D40-4096-A13C-B30D7763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A5067-376A-450D-8982-A888A280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3E437-45F8-44EF-BCD0-D6D82C81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76042-8B62-41F1-A18C-60463E87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2A366-369D-478E-A227-AE9A07EA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07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11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DC4FC2-8542-4C9D-81D3-600A9B88452E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84240" y="90360"/>
            <a:ext cx="76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os ecosist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UN HUMEDAL: LA MARI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984240" y="9036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Un humedal: la mari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934920" y="1274760"/>
            <a:ext cx="734544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isma es un humedal que se da en zonas cercanas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la co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ienen zonas de agua dulce y zonas donde el agua dulc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mezcla con el agua salada de las mare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see una enorme biodiversidad, con numerosas especies endémicas de cada zo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uchas aves migratorias usan las marismas como refug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900000" y="7650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La maris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2"/>
          <a:stretch/>
        </p:blipFill>
        <p:spPr>
          <a:xfrm>
            <a:off x="2519280" y="3780000"/>
            <a:ext cx="3780000" cy="2519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6300720" y="6021360"/>
            <a:ext cx="1619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arza r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"/>
          <p:cNvPicPr/>
          <p:nvPr/>
        </p:nvPicPr>
        <p:blipFill>
          <a:blip r:embed="rId2"/>
          <a:stretch/>
        </p:blipFill>
        <p:spPr>
          <a:xfrm>
            <a:off x="755640" y="981000"/>
            <a:ext cx="8185320" cy="538956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984240" y="90360"/>
            <a:ext cx="77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Un humedal: la mari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3780000" y="3141720"/>
            <a:ext cx="1618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alam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4573440" y="2340000"/>
            <a:ext cx="9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Garz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ea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3059280" y="1341360"/>
            <a:ext cx="1079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lamen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5400720" y="2576520"/>
            <a:ext cx="1619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spátu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6948360" y="2349360"/>
            <a:ext cx="107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arricerí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7524720" y="357336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scorp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e agu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5940360" y="3959280"/>
            <a:ext cx="720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atri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900000" y="6021360"/>
            <a:ext cx="1619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Gallipa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1619280" y="414036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ani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erid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2276640" y="2513160"/>
            <a:ext cx="900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erce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5148360" y="3141720"/>
            <a:ext cx="16192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ucha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7740720" y="2924280"/>
            <a:ext cx="90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ata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gu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3924360" y="5877000"/>
            <a:ext cx="1619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angrejo de rí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6659640" y="5219640"/>
            <a:ext cx="1619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gui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2411280" y="3780000"/>
            <a:ext cx="107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igüeñe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1547640" y="1844640"/>
            <a:ext cx="1619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itis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4"/>
          <p:cNvSpPr/>
          <p:nvPr/>
        </p:nvSpPr>
        <p:spPr>
          <a:xfrm>
            <a:off x="4859280" y="4724280"/>
            <a:ext cx="16192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arb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ya</cp:lastModifiedBy>
  <dcterms:modified xsi:type="dcterms:W3CDTF">2011-08-30T11:44:28Z</dcterms:modified>
  <cp:revision>46</cp:revision>
  <dc:subject/>
  <dc:title>Diapositiva 1</dc:title>
</cp:coreProperties>
</file>